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3.wmf" ContentType="image/x-wmf"/>
  <Override PartName="/ppt/media/image8.jpeg" ContentType="image/jpeg"/>
  <Override PartName="/ppt/media/image9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jpeg" ContentType="image/jpeg"/>
  <Override PartName="/ppt/media/image2.png" ContentType="image/png"/>
  <Override PartName="/ppt/media/image15.wmf" ContentType="image/x-wmf"/>
  <Override PartName="/ppt/media/image1.jpeg" ContentType="image/jpeg"/>
  <Override PartName="/ppt/media/image3.jpeg" ContentType="image/jpe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8.png" ContentType="image/png"/>
  <Override PartName="/ppt/media/image7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5BCE18-7F96-4E29-AE9F-F302659DDB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5E3E955-D2CF-4AD5-BFAC-2F5852BFBE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34920" y="4422240"/>
            <a:ext cx="515304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510319-9DD8-4086-AF37-F9ABF18F38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BDF1C0-4161-44CF-88A9-5746AD4AB9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8BC583E-59D9-4734-AAF2-6D0B26EB5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A591BBD-AB58-4076-A399-DDC59C72B4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1B2EA9A-96D0-4C98-AD7E-BBEDF95B06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1E11E46A-17D0-49FA-9585-8B0A2DB11A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34E9E7D-54E2-42E2-85F2-1D010A5F6D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48FAB15-2CF9-4EFD-BD00-4B35A40633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B00E2DB7-0345-4957-901B-EE084FFD80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03080" y="4422240"/>
            <a:ext cx="561636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E3830304-D24E-480B-900A-F540123B36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A8DA5-6D2F-443F-80B8-DB7CEDE2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0B3B-039C-4B6D-9C37-E00BE092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9A8C4-7059-4339-9FFE-CCA4B8252F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2803-9042-46BE-8B07-07D5DEEC1B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15BD-7FD1-4F81-99CA-3892DA622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2153-7922-4375-9871-6911BEB15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1AF4-A73E-4CB8-89CF-BCB9CB38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7C7AD-994A-4915-BD3E-DDBAA3F5C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F72D-E911-4F3D-8E91-8FA5EBE55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19080-04CD-493C-82B4-5CB7526F8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F722-AFFA-487F-8559-658B79002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123-59DF-4B09-9D4E-2482DBC7F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EA88-8349-4E87-8A22-F52D9AEF46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cic.gc.ca/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4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2"/>
          <p:cNvSpPr/>
          <p:nvPr/>
        </p:nvSpPr>
        <p:spPr>
          <a:xfrm>
            <a:off x="0" y="0"/>
            <a:ext cx="9144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49" name="Picture 8" descr="CASIP Insignia.jpg"/>
          <p:cNvPicPr/>
          <p:nvPr/>
        </p:nvPicPr>
        <p:blipFill>
          <a:blip r:embed="rId1"/>
          <a:stretch/>
        </p:blipFill>
        <p:spPr>
          <a:xfrm>
            <a:off x="380880" y="914400"/>
            <a:ext cx="3022560" cy="1600200"/>
          </a:xfrm>
          <a:prstGeom prst="rect">
            <a:avLst/>
          </a:prstGeom>
          <a:ln w="0">
            <a:noFill/>
          </a:ln>
        </p:spPr>
      </p:pic>
      <p:sp>
        <p:nvSpPr>
          <p:cNvPr id="50" name="TextBox 4"/>
          <p:cNvSpPr/>
          <p:nvPr/>
        </p:nvSpPr>
        <p:spPr>
          <a:xfrm>
            <a:off x="1066680" y="3048120"/>
            <a:ext cx="723924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ntique Olive"/>
              </a:rPr>
              <a:t>Employer Services Network</a:t>
            </a:r>
            <a:endParaRPr b="1" lang="en-US" sz="2800" spc="-1" strike="noStrike">
              <a:solidFill>
                <a:srgbClr val="ffffff"/>
              </a:solidFill>
              <a:latin typeface="Antique Olive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ive"/>
              </a:rPr>
              <a:t>Understanding Sector Partnerships</a:t>
            </a: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ive"/>
              </a:rPr>
              <a:t>Aleksandra Walczak, Project Manager</a:t>
            </a: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ntique Olive"/>
              </a:rPr>
              <a:t>July 30, 2012</a:t>
            </a: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51" name="Picture 6" descr="CIC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24480" y="6172200"/>
            <a:ext cx="2819520" cy="533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0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1" name="Rectangle 4"/>
          <p:cNvSpPr/>
          <p:nvPr/>
        </p:nvSpPr>
        <p:spPr>
          <a:xfrm>
            <a:off x="6324480" y="6248520"/>
            <a:ext cx="28195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2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3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5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56" name="Rectangle 10"/>
          <p:cNvSpPr/>
          <p:nvPr/>
        </p:nvSpPr>
        <p:spPr>
          <a:xfrm>
            <a:off x="914400" y="914400"/>
            <a:ext cx="7238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57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Factors for Succes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59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60" name="Diagram 14" descr=""/>
          <p:cNvPicPr/>
          <p:nvPr/>
        </p:nvPicPr>
        <p:blipFill>
          <a:blip r:embed="rId3"/>
          <a:stretch/>
        </p:blipFill>
        <p:spPr>
          <a:xfrm>
            <a:off x="682560" y="1378080"/>
            <a:ext cx="7705800" cy="477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2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6324480" y="6248520"/>
            <a:ext cx="28195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5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7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Stakeholder roles and responsibilities are clearly delineated and sha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llaboration is formalized through protocols and partnership agre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Training and professional development is centra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Cultivating team spirit builds trust and fosters collabo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Responsibilities are integrated into performance measurement and job descri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Employment opportunities may be referred from external organiz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Gill Sans MT"/>
              </a:rPr>
              <a:t>Employers are given opportunities for in person meet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nsultative management sty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100000"/>
              </a:lnSpc>
              <a:spcBef>
                <a:spcPts val="700"/>
              </a:spcBef>
              <a:spcAft>
                <a:spcPts val="700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Flexibility and responsive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70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Best Practice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71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6858000" y="6248520"/>
            <a:ext cx="22860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8" name="Rectangle 9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533520" y="914040"/>
            <a:ext cx="80769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nfo@casip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1-855-CASIP-99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@CASIP_ES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r"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ASIP Employer Services Network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12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3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000" spc="-1" strike="noStrike">
                <a:solidFill>
                  <a:srgbClr val="000000"/>
                </a:solidFill>
                <a:latin typeface="Arial Black"/>
              </a:rPr>
              <a:t>How to reach u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82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4" descr="C:\Documents and Settings\awalczak\My Documents\Technical\twitter.png"/>
          <p:cNvPicPr/>
          <p:nvPr/>
        </p:nvPicPr>
        <p:blipFill>
          <a:blip r:embed="rId3"/>
          <a:stretch/>
        </p:blipFill>
        <p:spPr>
          <a:xfrm>
            <a:off x="2743200" y="38098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5" descr="C:\Documents and Settings\awalczak\My Documents\Technical\linkedin.png"/>
          <p:cNvPicPr/>
          <p:nvPr/>
        </p:nvPicPr>
        <p:blipFill>
          <a:blip r:embed="rId4"/>
          <a:stretch/>
        </p:blipFill>
        <p:spPr>
          <a:xfrm>
            <a:off x="990720" y="495288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6781680" y="6248520"/>
            <a:ext cx="23623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2819520" y="9144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685800" y="6858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533520" y="762120"/>
            <a:ext cx="8076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ill Sans MT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onsortium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of independent, community-based agencies and colleges who deliver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employment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and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training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services to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internationally-trained</a:t>
            </a:r>
            <a:r>
              <a:rPr b="1" lang="en-US" sz="2400" spc="-1" strike="noStrike">
                <a:solidFill>
                  <a:srgbClr val="339933"/>
                </a:solidFill>
                <a:latin typeface="Gill Sans MT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job seekers and to employers in the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G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Working together since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1998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we share our experience, expertise and resources to improve service deliv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ogether we  serve over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 </a:t>
            </a:r>
            <a:r>
              <a:rPr b="1" lang="en-US" sz="3000" spc="-1" strike="noStrike">
                <a:solidFill>
                  <a:srgbClr val="33cc33"/>
                </a:solidFill>
                <a:latin typeface="Gill Sans MT"/>
                <a:ea typeface="Arial"/>
              </a:rPr>
              <a:t>70,000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newcomers per year – and some of our organizations have been doing this for over 60 year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838080" y="838080"/>
            <a:ext cx="72392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58" name="Picture 8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59" name="Rectangle 9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ntique Olive Roman"/>
              </a:rPr>
              <a:t>Background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62" name="Picture 13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6934320" y="6248520"/>
            <a:ext cx="220968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6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7" name="Rectangle 8"/>
          <p:cNvSpPr/>
          <p:nvPr/>
        </p:nvSpPr>
        <p:spPr>
          <a:xfrm>
            <a:off x="533520" y="91440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8" name="Rectangle 9"/>
          <p:cNvSpPr/>
          <p:nvPr/>
        </p:nvSpPr>
        <p:spPr>
          <a:xfrm>
            <a:off x="685800" y="3352680"/>
            <a:ext cx="2057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69" name="Rectangle 10"/>
          <p:cNvSpPr/>
          <p:nvPr/>
        </p:nvSpPr>
        <p:spPr>
          <a:xfrm>
            <a:off x="685800" y="4648320"/>
            <a:ext cx="166356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70" name="Picture 12" descr="costi"/>
          <p:cNvPicPr/>
          <p:nvPr/>
        </p:nvPicPr>
        <p:blipFill>
          <a:blip r:embed="rId1"/>
          <a:stretch/>
        </p:blipFill>
        <p:spPr>
          <a:xfrm>
            <a:off x="1219320" y="2209680"/>
            <a:ext cx="1904760" cy="817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3" descr="humber logo"/>
          <p:cNvPicPr/>
          <p:nvPr/>
        </p:nvPicPr>
        <p:blipFill>
          <a:blip r:embed="rId2"/>
          <a:stretch/>
        </p:blipFill>
        <p:spPr>
          <a:xfrm>
            <a:off x="1066680" y="3505320"/>
            <a:ext cx="2362320" cy="476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job-start"/>
          <p:cNvPicPr/>
          <p:nvPr/>
        </p:nvPicPr>
        <p:blipFill>
          <a:blip r:embed="rId3"/>
          <a:stretch/>
        </p:blipFill>
        <p:spPr>
          <a:xfrm>
            <a:off x="1066680" y="4648320"/>
            <a:ext cx="2210040" cy="59508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7" descr="Seneca Logo"/>
          <p:cNvPicPr/>
          <p:nvPr/>
        </p:nvPicPr>
        <p:blipFill>
          <a:blip r:embed="rId4"/>
          <a:stretch/>
        </p:blipFill>
        <p:spPr>
          <a:xfrm>
            <a:off x="5410080" y="3581280"/>
            <a:ext cx="2210040" cy="6271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20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Member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75" name="Picture 20" descr="CASIP Logo.gif"/>
          <p:cNvPicPr/>
          <p:nvPr/>
        </p:nvPicPr>
        <p:blipFill>
          <a:blip r:embed="rId5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1" descr="ACCES Logo.gif"/>
          <p:cNvPicPr/>
          <p:nvPr/>
        </p:nvPicPr>
        <p:blipFill>
          <a:blip r:embed="rId6"/>
          <a:stretch/>
        </p:blipFill>
        <p:spPr>
          <a:xfrm>
            <a:off x="1066680" y="914400"/>
            <a:ext cx="4953240" cy="1066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4" descr="MS Logo for Website.bmp"/>
          <p:cNvPicPr/>
          <p:nvPr/>
        </p:nvPicPr>
        <p:blipFill>
          <a:blip r:embed="rId7"/>
          <a:stretch/>
        </p:blipFill>
        <p:spPr>
          <a:xfrm>
            <a:off x="5105520" y="2209680"/>
            <a:ext cx="327636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6" descr="JVS Logo.gif"/>
          <p:cNvPicPr/>
          <p:nvPr/>
        </p:nvPicPr>
        <p:blipFill>
          <a:blip r:embed="rId8"/>
          <a:stretch/>
        </p:blipFill>
        <p:spPr>
          <a:xfrm>
            <a:off x="5638680" y="838080"/>
            <a:ext cx="3505320" cy="12193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7" descr="SkillsForChange New Logs.gif"/>
          <p:cNvPicPr/>
          <p:nvPr/>
        </p:nvPicPr>
        <p:blipFill>
          <a:blip r:embed="rId9"/>
          <a:stretch/>
        </p:blipFill>
        <p:spPr>
          <a:xfrm>
            <a:off x="5181480" y="4572000"/>
            <a:ext cx="358164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6629400" y="6248520"/>
            <a:ext cx="25146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2819520" y="9144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21932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The Mentoring 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Canadian Workplace Commun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Coordinated Job Development (CASIP ES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Times New Roman"/>
              </a:rPr>
              <a:t>Bridging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648320" y="1143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Job Fairs / Just 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Mark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Professional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Information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Advoca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spcAft>
                <a:spcPts val="2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  <a:ea typeface="Arial"/>
              </a:rPr>
              <a:t>Visi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2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13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ntique Olive Roman"/>
              </a:rPr>
              <a:t>Recent examples of Joint Initiatives 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89" name="Picture 13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0" descr="C:\Documents and Settings\awalczak\Local Settings\Temporary Internet Files\Content.IE5\N2VOMPVX\MC900230642[1].wmf"/>
          <p:cNvPicPr/>
          <p:nvPr/>
        </p:nvPicPr>
        <p:blipFill>
          <a:blip r:embed="rId3"/>
          <a:stretch/>
        </p:blipFill>
        <p:spPr>
          <a:xfrm>
            <a:off x="2514600" y="4114800"/>
            <a:ext cx="36021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6858000" y="6248520"/>
            <a:ext cx="228600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4" name="Rectangle 6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5" name="Rectangle 7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6" name="Rectangle 8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7" name="Rectangle 9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Full suite of human resource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Pre-screened job ready professional candid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Coordinated access point to diverse and qualified talent p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Core group of 23 Job Developers with specialized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Monthly meetings and job sharing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Over 70 Job Developers in expanded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Sector-specific spe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Tailored recruitment, networking &amp; mentorship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Gill Sans MT"/>
              </a:rPr>
              <a:t>Hotline and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7430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2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13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343080" indent="-34308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800" spc="-1" strike="noStrike">
                <a:solidFill>
                  <a:srgbClr val="000000"/>
                </a:solidFill>
                <a:latin typeface="Antique Olive Roman"/>
              </a:rPr>
              <a:t>Services Offered to Employers</a:t>
            </a:r>
            <a:endParaRPr b="1" lang="en-US" sz="28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01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3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4" name="Rectangle 4"/>
          <p:cNvSpPr/>
          <p:nvPr/>
        </p:nvSpPr>
        <p:spPr>
          <a:xfrm>
            <a:off x="6324480" y="6248520"/>
            <a:ext cx="28195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6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7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8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533520" y="114264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Full suite of employment services and supp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Sector specific bridging progra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Language training opportunit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Coordinated access to addi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2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programs an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ntique Olive Roman"/>
              </a:rPr>
              <a:t>Services Offered to Job-Seekers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12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5" descr="C:\Documents and Settings\awalczak\Local Settings\Temporary Internet Files\Content.IE5\UL38QTQ7\MP900422989[1].jpg"/>
          <p:cNvPicPr/>
          <p:nvPr/>
        </p:nvPicPr>
        <p:blipFill>
          <a:blip r:embed="rId3"/>
          <a:stretch/>
        </p:blipFill>
        <p:spPr>
          <a:xfrm>
            <a:off x="6477120" y="3352680"/>
            <a:ext cx="1904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2"/>
          <p:cNvSpPr/>
          <p:nvPr/>
        </p:nvSpPr>
        <p:spPr>
          <a:xfrm>
            <a:off x="6781680" y="6248520"/>
            <a:ext cx="23623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15" name="Rectangle 3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16" name="Rectangle 4"/>
          <p:cNvSpPr/>
          <p:nvPr/>
        </p:nvSpPr>
        <p:spPr>
          <a:xfrm>
            <a:off x="2819520" y="914400"/>
            <a:ext cx="3581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17" name="Rectangle 5"/>
          <p:cNvSpPr/>
          <p:nvPr/>
        </p:nvSpPr>
        <p:spPr>
          <a:xfrm>
            <a:off x="685800" y="685800"/>
            <a:ext cx="7238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18" name="Picture 8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19" name="Rectangle 9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1" name="Rectangle 11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22" name="Picture 13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1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graphicFrame>
        <p:nvGraphicFramePr>
          <p:cNvPr id="124" name="Object 2"/>
          <p:cNvGraphicFramePr/>
          <p:nvPr/>
        </p:nvGraphicFramePr>
        <p:xfrm>
          <a:off x="0" y="762120"/>
          <a:ext cx="9144000" cy="6476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762120"/>
                    <a:ext cx="9144000" cy="6476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Rectangle 14"/>
          <p:cNvSpPr/>
          <p:nvPr/>
        </p:nvSpPr>
        <p:spPr>
          <a:xfrm>
            <a:off x="0" y="474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8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6705720" y="6248520"/>
            <a:ext cx="243828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0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1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2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3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Between April 2011 to June 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26 employers referred into CASIP ES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711 positions on our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1927 ITIs with increased access to opportun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Over 100 were interviewed at our last Recruitment Event alon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Successes to Date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37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0" y="0"/>
            <a:ext cx="914400" cy="609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Antique Olive"/>
              </a:rPr>
              <a:t>CAIP</a:t>
            </a:r>
            <a:endParaRPr b="1" lang="en-US" sz="21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6324480" y="6248520"/>
            <a:ext cx="99072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0" name="Rectangle 4"/>
          <p:cNvSpPr/>
          <p:nvPr/>
        </p:nvSpPr>
        <p:spPr>
          <a:xfrm>
            <a:off x="6705720" y="6248520"/>
            <a:ext cx="2438280" cy="380880"/>
          </a:xfrm>
          <a:prstGeom prst="rect">
            <a:avLst/>
          </a:prstGeom>
          <a:solidFill>
            <a:srgbClr val="33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1" name="Rectangle 5"/>
          <p:cNvSpPr/>
          <p:nvPr/>
        </p:nvSpPr>
        <p:spPr>
          <a:xfrm>
            <a:off x="7315200" y="6248520"/>
            <a:ext cx="9907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ASIP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2" name="Rectangle 6"/>
          <p:cNvSpPr/>
          <p:nvPr/>
        </p:nvSpPr>
        <p:spPr>
          <a:xfrm>
            <a:off x="0" y="6248520"/>
            <a:ext cx="6324480" cy="38088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gether We Succeed</a:t>
            </a:r>
            <a:endParaRPr b="1" lang="en-US" sz="18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809880" y="914400"/>
            <a:ext cx="4419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2590920" y="685800"/>
            <a:ext cx="44193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500" spc="-1" strike="noStrike">
              <a:solidFill>
                <a:srgbClr val="ffffff"/>
              </a:solidFill>
              <a:latin typeface="Antique Olive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533520" y="1143000"/>
            <a:ext cx="80769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factors have contributed to successfu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amwork for you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1" descr="CASIP_logo"/>
          <p:cNvPicPr/>
          <p:nvPr/>
        </p:nvPicPr>
        <p:blipFill>
          <a:blip r:embed="rId1"/>
          <a:stretch/>
        </p:blipFill>
        <p:spPr>
          <a:xfrm>
            <a:off x="0" y="0"/>
            <a:ext cx="1143000" cy="88272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2"/>
          <p:cNvSpPr/>
          <p:nvPr/>
        </p:nvSpPr>
        <p:spPr>
          <a:xfrm>
            <a:off x="1143000" y="0"/>
            <a:ext cx="8001000" cy="762120"/>
          </a:xfrm>
          <a:prstGeom prst="rect">
            <a:avLst/>
          </a:prstGeom>
          <a:solidFill>
            <a:srgbClr val="33cc33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Black"/>
              </a:rPr>
              <a:t>What about you?</a:t>
            </a:r>
            <a:endParaRPr b="1" lang="en-US" sz="3000" spc="-1" strike="noStrike">
              <a:solidFill>
                <a:srgbClr val="ffffff"/>
              </a:solidFill>
              <a:latin typeface="Antique Olive"/>
            </a:endParaRPr>
          </a:p>
        </p:txBody>
      </p:sp>
      <p:pic>
        <p:nvPicPr>
          <p:cNvPr id="148" name="Picture 14" descr="CASIP Logo.gif"/>
          <p:cNvPicPr/>
          <p:nvPr/>
        </p:nvPicPr>
        <p:blipFill>
          <a:blip r:embed="rId2"/>
          <a:stretch/>
        </p:blipFill>
        <p:spPr>
          <a:xfrm>
            <a:off x="0" y="0"/>
            <a:ext cx="15238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0T19:57:13Z</dcterms:created>
  <dc:creator>Mary</dc:creator>
  <dc:description/>
  <dc:language>en-US</dc:language>
  <cp:lastModifiedBy>gp</cp:lastModifiedBy>
  <dcterms:modified xsi:type="dcterms:W3CDTF">2012-08-02T20:40:00Z</dcterms:modified>
  <cp:revision>16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Google.Documents.DocumentId">
    <vt:lpwstr>1GahKGu_ZmFInjm_DZ8BtnaUrTJTy9uf5ldqkHZmDQdg</vt:lpwstr>
  </property>
  <property fmtid="{D5CDD505-2E9C-101B-9397-08002B2CF9AE}" pid="3" name="Google.Documents.MergeIncapabilityFlags">
    <vt:r8>0</vt:r8>
  </property>
  <property fmtid="{D5CDD505-2E9C-101B-9397-08002B2CF9AE}" pid="4" name="Google.Documents.PluginVersion">
    <vt:lpwstr>2.0.2662.553</vt:lpwstr>
  </property>
  <property fmtid="{D5CDD505-2E9C-101B-9397-08002B2CF9AE}" pid="5" name="Google.Documents.RevisionId">
    <vt:lpwstr>11330907432194805424</vt:lpwstr>
  </property>
  <property fmtid="{D5CDD505-2E9C-101B-9397-08002B2CF9AE}" pid="6" name="Google.Documents.Tracking">
    <vt:lpwstr>true</vt:lpwstr>
  </property>
</Properties>
</file>